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92A2-FD8F-4A63-92C8-12DE32B21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4BEF-5677-4FC3-9664-02A4D31C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84F6-DD42-4F50-929B-BA231BAA8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9854-39DD-4505-8D89-1C8A4BD1C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2894-45CC-42E9-BE94-863DFDD6C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5938-12D1-4D2C-B346-92AB705E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DA64-1B5C-44F4-BE45-0FA54E35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B71B3-8B42-47B5-B61E-487FFB1B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7C106-3834-44BA-BE0A-5944A79F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0A54F-0304-477E-92AC-65E1A46D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18B5A-8A74-4AFE-8AE7-D60A0B4F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9EE1-14DA-4A6B-BA39-D1E7CBE6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55E9F-F7B2-4E7B-97DE-8301927D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5E8A9-6E04-4BA1-AD29-CAE76827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FF8C-AA9C-4ADE-857D-044F20B6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C22E-1350-4EAD-8D71-67916A7D9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FCC4-F16E-42CC-A4F0-F9B8BCB20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8A45-C83C-48FC-B90A-B6BE6E4C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7E45-DFDC-4E4E-A233-6F2E7ADB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0608-063C-41C0-938C-CF30B690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8858-8743-4622-8CF6-F2613682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0961-0857-4FC9-A3F1-58650EAA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901B-0029-4D58-9F38-BE650EA7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352A-B10A-47C7-B58A-037442C4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B842-56BF-4A0C-8520-4DFC88222FFC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0969-2B02-4E77-9C4C-2CE6FAF8C0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6068-31F7-4DC6-BC1D-FFC85DBE9E52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0129-25AE-49A9-84C6-AF0B6EDCDF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77025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Intel Teach to the Futu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arner Suppo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M JACO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DA92-F607-4915-A796-B7413685312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6D177AD-71EC-490F-9401-34D05462F3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ccecff"/>
                </a:solidFill>
                <a:latin typeface="Century Gothic"/>
              </a:rPr>
              <a:t>Activity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02920" y="1341000"/>
            <a:ext cx="71564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ffffff"/>
                </a:solidFill>
                <a:latin typeface="Verdana"/>
              </a:rPr>
              <a:t>Work on your ow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ffffff"/>
                </a:solidFill>
                <a:latin typeface="Verdana"/>
              </a:rPr>
              <a:t>Design and create at least </a:t>
            </a:r>
            <a:r>
              <a:rPr b="1" lang="en-ZA" sz="1800" spc="-1" strike="noStrike">
                <a:solidFill>
                  <a:srgbClr val="ffff00"/>
                </a:solidFill>
                <a:latin typeface="Verdana"/>
              </a:rPr>
              <a:t>two</a:t>
            </a:r>
            <a:r>
              <a:rPr b="1" lang="en-ZA" sz="1800" spc="-1" strike="noStrike">
                <a:solidFill>
                  <a:srgbClr val="ffffff"/>
                </a:solidFill>
                <a:latin typeface="Verdana"/>
              </a:rPr>
              <a:t> learner support resourc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ffffff"/>
                </a:solidFill>
                <a:latin typeface="Verdana"/>
              </a:rPr>
              <a:t>Pair and share your resource with a colleagu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ffffff"/>
                </a:solidFill>
                <a:latin typeface="Verdana"/>
              </a:rPr>
              <a:t>In your feedback to each other try to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ffffff"/>
                </a:solidFill>
                <a:latin typeface="Verdana"/>
              </a:rPr>
              <a:t>Mention what you like about the resour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ffffff"/>
                </a:solidFill>
                <a:latin typeface="Verdana"/>
              </a:rPr>
              <a:t>Ask questions about the resour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ffffff"/>
                </a:solidFill>
                <a:latin typeface="Verdana"/>
              </a:rPr>
              <a:t>Recommend one possible improvemen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ffffff"/>
                </a:solidFill>
                <a:latin typeface="Verdana"/>
              </a:rPr>
              <a:t>Consider and make changes based on the feedback</a:t>
            </a:r>
            <a:r>
              <a:rPr b="1" lang="en-ZA" sz="16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ffffff"/>
                </a:solidFill>
                <a:latin typeface="Verdana"/>
              </a:rPr>
              <a:t>Save resources in your learner support fold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M JACO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CD28-49B5-44B9-8D51-AAFE56203A5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FAA7DE-DB35-487A-B5BA-6EC9E74CCC91}" type="datetime1">
              <a:rPr lang="en-US"/>
              <a:t>07/30/26</a:t>
            </a:fld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2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ot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Monotype Corsiva"/>
              </a:rPr>
              <a:t>“</a:t>
            </a:r>
            <a:r>
              <a:rPr b="0" lang="en-ZA" sz="3200" spc="-1" strike="noStrike">
                <a:solidFill>
                  <a:srgbClr val="ffffff"/>
                </a:solidFill>
                <a:latin typeface="Monotype Corsiva"/>
              </a:rPr>
              <a:t>COMPUTERS AREN’T MAGIC, TEACHERS AR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Monotype Corsiva"/>
              </a:rPr>
              <a:t>“</a:t>
            </a:r>
            <a:r>
              <a:rPr b="0" lang="en-ZA" sz="3200" spc="-1" strike="noStrike">
                <a:solidFill>
                  <a:srgbClr val="ffffff"/>
                </a:solidFill>
                <a:latin typeface="Monotype Corsiva"/>
              </a:rPr>
              <a:t>TWO THINGS ROB PEOPLE OF THEIR PEACE OF MIND, UNFINISHED WORK AND WORK NOT YET BEGUN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Monotype Corsiva"/>
              </a:rPr>
              <a:t>“</a:t>
            </a:r>
            <a:r>
              <a:rPr b="0" lang="en-ZA" sz="3200" spc="-1" strike="noStrike">
                <a:solidFill>
                  <a:srgbClr val="ffffff"/>
                </a:solidFill>
                <a:latin typeface="Monotype Corsiva"/>
              </a:rPr>
              <a:t>DON’T WAIT FOR YOUR SHIP TO COME IN…………………. SWIM OUT TO MEET I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M JACO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C852-EF7D-4A9B-856D-4291034C3D0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589956-BB71-446A-9411-1A18531A3E88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ARNER SUPPOR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purpose of this module and activity is for participants to consider the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upport that th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learners will requir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during this project and to prepare learner support materials for the learn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ing the gathering pha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g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earch templ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ing the processing pha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g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 gu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ing the presenting pha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g. presentation storyboar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M JACO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1F9F-B175-41C8-8907-E93F8DE8B5B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8799BB-042C-4ED4-B3EC-24E12486C6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ccecff"/>
                </a:solidFill>
                <a:latin typeface="Arial"/>
              </a:rPr>
              <a:t>LEARNER SUPPOR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ff"/>
                </a:solidFill>
                <a:latin typeface="Arial"/>
              </a:rPr>
              <a:t>TO SUPPORT THE LEARNER IN </a:t>
            </a:r>
            <a:r>
              <a:rPr b="1" lang="en-ZA" sz="2400" spc="-1" strike="noStrike">
                <a:solidFill>
                  <a:srgbClr val="ffff00"/>
                </a:solidFill>
                <a:latin typeface="Arial"/>
              </a:rPr>
              <a:t>ACHIEVING THE PROJECT’S OUTCO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00"/>
                </a:solidFill>
                <a:latin typeface="Arial"/>
              </a:rPr>
              <a:t>LEADING LEARNER FROM WHAT THEY KNOW TO WHAT YOU WANT THEM TO L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ff"/>
                </a:solidFill>
                <a:latin typeface="Arial"/>
              </a:rPr>
              <a:t>SUPPORTING THE </a:t>
            </a:r>
            <a:r>
              <a:rPr b="1" lang="en-ZA" sz="2400" spc="-1" strike="noStrike">
                <a:solidFill>
                  <a:srgbClr val="ffff00"/>
                </a:solidFill>
                <a:latin typeface="Arial"/>
              </a:rPr>
              <a:t>WEAKNESSES OF LEAR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ff"/>
                </a:solidFill>
                <a:latin typeface="Arial"/>
              </a:rPr>
              <a:t>PROVIDING </a:t>
            </a:r>
            <a:r>
              <a:rPr b="1" lang="en-ZA" sz="2400" spc="-1" strike="noStrike">
                <a:solidFill>
                  <a:srgbClr val="ffff00"/>
                </a:solidFill>
                <a:latin typeface="Arial"/>
              </a:rPr>
              <a:t>GUIDANCE</a:t>
            </a:r>
            <a:r>
              <a:rPr b="1" lang="en-ZA" sz="2400" spc="-1" strike="noStrike">
                <a:solidFill>
                  <a:srgbClr val="ffffff"/>
                </a:solidFill>
                <a:latin typeface="Arial"/>
              </a:rPr>
              <a:t> WHERE IT IS 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ZA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ZA" sz="1800" spc="-1" strike="noStrike">
                <a:solidFill>
                  <a:srgbClr val="ffffff"/>
                </a:solidFill>
                <a:latin typeface="Arial"/>
              </a:rPr>
              <a:t>LEADING QUESTIONS TO GUIDE THIN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ZA" sz="1800" spc="-1" strike="noStrike">
                <a:solidFill>
                  <a:srgbClr val="ffffff"/>
                </a:solidFill>
                <a:latin typeface="Arial"/>
              </a:rPr>
              <a:t>- DISCUSSING TO GIVE DIR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ZA" sz="1800" spc="-1" strike="noStrike">
                <a:solidFill>
                  <a:srgbClr val="ffffff"/>
                </a:solidFill>
                <a:latin typeface="Arial"/>
              </a:rPr>
              <a:t>- REFERRING TO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ZA" sz="1800" spc="-1" strike="noStrike">
                <a:solidFill>
                  <a:srgbClr val="ffffff"/>
                </a:solidFill>
                <a:latin typeface="Arial"/>
              </a:rPr>
              <a:t>- GIVING EXAMP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ZA" sz="1800" spc="-1" strike="noStrike">
                <a:solidFill>
                  <a:srgbClr val="ffffff"/>
                </a:solidFill>
                <a:latin typeface="Arial"/>
              </a:rPr>
              <a:t>- GROUP INTERACTION AND PEER SUP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ZA" sz="1800" spc="-1" strike="noStrike">
                <a:solidFill>
                  <a:srgbClr val="ffffff"/>
                </a:solidFill>
                <a:latin typeface="Arial"/>
              </a:rPr>
              <a:t>- MODEL THINKING OR PROCE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577360" y="550080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M JACO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976C-8BCF-45E1-8F13-F0AF8F99FBA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0FBA17-443A-4142-9399-A26D5CC058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PHASES OF PROJECT-BASED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LEARNING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351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hallenge phas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in which the learners are given a task that challenges them to think. They also clarify their information needs.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athering phas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in which the learners identify what information they will find and where to find it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ocessing phas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in which the learners evaluate, analyse and synthesise the information that they find.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esenting phas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in which the learners present their findings/resear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M JACO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7B2D-F67D-4DD9-80F0-B259E47B7B2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61E326-214B-4E5A-8BC2-574D173001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caffolding (Learner Support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builders use a scaffold to support and shape a building, educators use "scaffolding" to support and give structure to the learners' think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www.carpentersunion.ca/ graphics/scaffold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484360" y="3071880"/>
            <a:ext cx="3959280" cy="269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M JACO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E5E3-598E-459A-A8BE-1E00303B1A6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4AF5F6-3B7C-411D-B32D-B4338B24E2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ccecff"/>
                </a:solidFill>
                <a:latin typeface="Arial"/>
              </a:rPr>
              <a:t>TYPES OF SCAFFOLDING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200" spc="-1" strike="noStrike">
                <a:solidFill>
                  <a:srgbClr val="ffff00"/>
                </a:solidFill>
                <a:latin typeface="Arial"/>
              </a:rPr>
              <a:t>RECEPTION SCAFFOL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ZA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ZA" sz="1800" spc="-1" strike="noStrike">
                <a:solidFill>
                  <a:srgbClr val="ffffff"/>
                </a:solidFill>
                <a:latin typeface="Arial"/>
              </a:rPr>
              <a:t>HOW WE CAN HELP LEARNERS IDENTIFY, ORGANISE AND RECORD WHAT IS IMPORTANT, ACQUIRING INFORMATION e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ZA" sz="16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ZA" sz="1800" spc="-1" strike="noStrike">
                <a:solidFill>
                  <a:srgbClr val="ffffff"/>
                </a:solidFill>
                <a:latin typeface="Arial"/>
              </a:rPr>
              <a:t>- interview templ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Z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ZA" sz="1800" spc="-1" strike="noStrike">
                <a:solidFill>
                  <a:srgbClr val="ffffff"/>
                </a:solidFill>
                <a:latin typeface="Arial"/>
              </a:rPr>
              <a:t>- observation templ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Z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ZA" sz="1800" spc="-1" strike="noStrike">
                <a:solidFill>
                  <a:srgbClr val="ffffff"/>
                </a:solidFill>
                <a:latin typeface="Arial"/>
              </a:rPr>
              <a:t>- note taking gu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200" spc="-1" strike="noStrike">
                <a:solidFill>
                  <a:srgbClr val="ffff00"/>
                </a:solidFill>
                <a:latin typeface="Arial"/>
              </a:rPr>
              <a:t>PRODUCTION SCAFFOL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ZA" sz="2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ZA" sz="1800" spc="-1" strike="noStrike">
                <a:solidFill>
                  <a:srgbClr val="ffffff"/>
                </a:solidFill>
                <a:latin typeface="Arial"/>
              </a:rPr>
              <a:t>HELP LEARNERS TO PLAN AND PRODUCE WHAT THEY HAVE LEAR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Z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ZA" sz="1800" spc="-1" strike="noStrike">
                <a:solidFill>
                  <a:srgbClr val="ffffff"/>
                </a:solidFill>
                <a:latin typeface="Arial"/>
              </a:rPr>
              <a:t>- storyboards, writing templates, workshe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200" spc="-1" strike="noStrike">
                <a:solidFill>
                  <a:srgbClr val="ffff00"/>
                </a:solidFill>
                <a:latin typeface="Arial"/>
              </a:rPr>
              <a:t>TRANSFORMATION SCAFFOL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ZA" sz="1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ZA" sz="1800" spc="-1" strike="noStrike">
                <a:solidFill>
                  <a:srgbClr val="ffffff"/>
                </a:solidFill>
                <a:latin typeface="Arial"/>
              </a:rPr>
              <a:t>HELP LEARNERS TO THINK AS THEY PROCESS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Z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ZA" sz="1800" spc="-1" strike="noStrike">
                <a:solidFill>
                  <a:srgbClr val="ffffff"/>
                </a:solidFill>
                <a:latin typeface="Arial"/>
              </a:rPr>
              <a:t>eg. Venn Diagrams, Features Chart, Comparison Ch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M JACO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2AF5-2CFA-4CCF-A170-31BB126617F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F6551B-09C8-4B9D-865F-1F72E83198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ccecff"/>
                </a:solidFill>
                <a:latin typeface="Century Gothic"/>
              </a:rPr>
              <a:t>Activity 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ff"/>
                </a:solidFill>
                <a:latin typeface="Arial"/>
              </a:rPr>
              <a:t>Work in pai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ff"/>
                </a:solidFill>
                <a:latin typeface="Arial"/>
              </a:rPr>
              <a:t>Consider the exampl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ff"/>
                </a:solidFill>
                <a:latin typeface="Arial"/>
              </a:rPr>
              <a:t>discuss ideas about how to support learners in your proje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ff"/>
                </a:solidFill>
                <a:latin typeface="Arial"/>
              </a:rPr>
              <a:t>Develop a learner </a:t>
            </a:r>
            <a:r>
              <a:rPr b="1" lang="en-ZA" sz="2400" spc="-1" strike="noStrike">
                <a:solidFill>
                  <a:srgbClr val="ffff00"/>
                </a:solidFill>
                <a:latin typeface="Arial"/>
              </a:rPr>
              <a:t>support strategy</a:t>
            </a:r>
            <a:r>
              <a:rPr b="1" lang="en-ZA" sz="2400" spc="-1" strike="noStrike">
                <a:solidFill>
                  <a:srgbClr val="ffffff"/>
                </a:solidFill>
                <a:latin typeface="Arial"/>
              </a:rPr>
              <a:t> for the project entitled: “Can we live without money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ffffff"/>
                </a:solidFill>
                <a:latin typeface="Arial"/>
              </a:rPr>
              <a:t>record this as follow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Arial"/>
              </a:rPr>
              <a:t>Gathering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Arial"/>
              </a:rPr>
              <a:t>Processing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Arial"/>
              </a:rPr>
              <a:t>Knowledge prod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ff"/>
                </a:solidFill>
                <a:latin typeface="Arial"/>
              </a:rPr>
              <a:t>List name the learner support resourc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M JACO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4C32-20C2-4F73-85D7-20CC222DFE0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4EDCDA-1BCF-48D9-AE70-AA59B3837F3E}" type="datetime1">
              <a:rPr lang="en-US"/>
              <a:t>07/30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436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ccecff"/>
                </a:solidFill>
                <a:latin typeface="Century Gothic"/>
              </a:rPr>
              <a:t>Activity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4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ff"/>
                </a:solidFill>
                <a:latin typeface="Arial"/>
              </a:rPr>
              <a:t>Work in pai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ff"/>
                </a:solidFill>
                <a:latin typeface="Arial"/>
              </a:rPr>
              <a:t>Consider the exampl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ff"/>
                </a:solidFill>
                <a:latin typeface="Arial"/>
              </a:rPr>
              <a:t>discuss ideas about how to support learners in your proje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ff"/>
                </a:solidFill>
                <a:latin typeface="Arial"/>
              </a:rPr>
              <a:t>Develop a learner </a:t>
            </a:r>
            <a:r>
              <a:rPr b="1" lang="en-ZA" sz="2400" spc="-1" strike="noStrike">
                <a:solidFill>
                  <a:srgbClr val="ffff00"/>
                </a:solidFill>
                <a:latin typeface="Arial"/>
              </a:rPr>
              <a:t>support strategy</a:t>
            </a:r>
            <a:r>
              <a:rPr b="1" lang="en-ZA" sz="2400" spc="-1" strike="noStrike">
                <a:solidFill>
                  <a:srgbClr val="ffffff"/>
                </a:solidFill>
                <a:latin typeface="Arial"/>
              </a:rPr>
              <a:t> for the your projec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ff"/>
                </a:solidFill>
                <a:latin typeface="Arial"/>
              </a:rPr>
              <a:t>record this as follows in your project pla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Arial"/>
              </a:rPr>
              <a:t>Gathering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Arial"/>
              </a:rPr>
              <a:t>Processing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Arial"/>
              </a:rPr>
              <a:t>Knowledge production</a:t>
            </a:r>
            <a:r>
              <a:rPr b="1" lang="en-Z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ff"/>
                </a:solidFill>
                <a:latin typeface="Arial"/>
              </a:rPr>
              <a:t>List and name the learner support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M JACOB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C20B-50B3-44FE-A9FF-FA4CB239C646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EF37EC-56B6-4036-9136-A37F403DF3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17:32:02Z</dcterms:created>
  <dc:creator>MMOEDERICK</dc:creator>
  <dc:description/>
  <dc:language>en-US</dc:language>
  <cp:lastModifiedBy>MMOEDERICK</cp:lastModifiedBy>
  <dcterms:modified xsi:type="dcterms:W3CDTF">2006-08-04T20:44:23Z</dcterms:modified>
  <cp:revision>18</cp:revision>
  <dc:subject/>
  <dc:title>Slide 1</dc:title>
</cp:coreProperties>
</file>